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drumroll.wav" ContentType="audio/x-wav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8.png" ContentType="image/png"/>
  <Override PartName="/ppt/media/image7.jpeg" ContentType="image/jpeg"/>
  <Override PartName="/ppt/media/cashreg.wav" ContentType="audio/x-wav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21E-28E9-453C-901A-137B591B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CBA-B712-4376-8E18-C96B820F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C6B-7EA9-438C-832F-CCC74B41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424-510D-4759-BB2C-BC859843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1719-041E-4B1A-A3B3-5F03D2D4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B081-C862-4436-9E58-846B6788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D941-14D6-49C4-B833-C2B98088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B67E-97D1-4582-A1C7-56EC51A6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F8B1-13F2-4AB4-82E5-D1A08578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492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27E0-4A7E-4434-B966-1543776B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70BA-E882-4976-B218-756E90C2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32B-72DC-4E60-8157-03F76B21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FF0F-7B31-4B83-97DA-2C6DF366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4178-B219-4D0E-9F14-8F23886A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67F2-F594-4F61-8BEF-99EF5F21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E60C-71F1-4188-A020-BC7D37F5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E92C-FBAB-4A8A-B18A-174D5046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298-2984-4624-A8D9-8A8D4805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5E3-0A14-4D30-9DBD-F993301D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347-BEDB-429F-BF9F-E5326DBC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492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010-CEE7-4659-A1F3-9FBB1091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169-6F00-4F46-AFFD-C85F7F97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F3F-BC35-429C-B295-62EB5054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D32-AE90-4A28-AE39-B683266D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9F83-402A-432B-9E9E-5C69A5851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9C22-4641-4E70-9DFC-060B3F5653E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120" y="304920"/>
            <a:ext cx="9372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</a:rPr>
              <a:t>PENNSBURY MAN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Pennsbury Manor"/>
          <p:cNvPicPr/>
          <p:nvPr/>
        </p:nvPicPr>
        <p:blipFill>
          <a:blip r:embed="rId1"/>
          <a:stretch/>
        </p:blipFill>
        <p:spPr>
          <a:xfrm>
            <a:off x="2666880" y="403848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 Penn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2414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3200400" y="22860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809880" y="1752480"/>
            <a:ext cx="430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Home of William Pen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merica’s foremost Quak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Founder of Pennsylvani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tatesman and Diplomat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WILLIAM PENN’S LIF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n in England October 24, 16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ded Oxford University at 16 years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ed the Society of Friends (the Quak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ote “The Charter of Privileg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ried twice with 15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voyages to Pennsylvan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eased in 17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photo-penn"/>
          <p:cNvPicPr/>
          <p:nvPr/>
        </p:nvPicPr>
        <p:blipFill>
          <a:blip r:embed="rId1"/>
          <a:stretch/>
        </p:blipFill>
        <p:spPr>
          <a:xfrm>
            <a:off x="7010280" y="4267080"/>
            <a:ext cx="1817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99"/>
                </a:solidFill>
                <a:latin typeface="Bookman Old Style"/>
              </a:rPr>
              <a:t>Pennsylvania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681 received the Charter from King Charle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d after Sir Admiral Pen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nsilvania” means Penn’s W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he city of Philadelph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adelphia mea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therly 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629400" y="45720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charter"/>
          <p:cNvPicPr/>
          <p:nvPr/>
        </p:nvPicPr>
        <p:blipFill>
          <a:blip r:embed="rId1"/>
          <a:stretch/>
        </p:blipFill>
        <p:spPr>
          <a:xfrm>
            <a:off x="5410080" y="4267080"/>
            <a:ext cx="34290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Bookman Old Style"/>
              </a:rPr>
              <a:t>Holy Experiment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2590920"/>
            <a:ext cx="7772400" cy="65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447920" y="3352680"/>
            <a:ext cx="769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81 dreams come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ome” is the ship that brought Penn to the new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ed in Pennsylvania 16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ed peace treaty with Indians under an Elm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mpum belt presented to Penn in November 1682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9" descr="treaty"/>
          <p:cNvPicPr/>
          <p:nvPr/>
        </p:nvPicPr>
        <p:blipFill>
          <a:blip r:embed="rId1"/>
          <a:stretch/>
        </p:blipFill>
        <p:spPr>
          <a:xfrm>
            <a:off x="2971800" y="838080"/>
            <a:ext cx="4572000" cy="2498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1447920" y="5867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00"/>
                </a:solidFill>
                <a:latin typeface="Bookman Old Style"/>
              </a:rPr>
              <a:t>Pennsbury Manor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n’s country home is in Bucks Cou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or House faces the Delaware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struction on foundation of origin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nished with items Penn ow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n left behind many letters, ledgers, and journals describing every day life at Pennsb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Pennsbury"/>
          <p:cNvPicPr/>
          <p:nvPr/>
        </p:nvPicPr>
        <p:blipFill>
          <a:blip r:embed="rId1"/>
          <a:stretch/>
        </p:blipFill>
        <p:spPr>
          <a:xfrm>
            <a:off x="3962520" y="5334120"/>
            <a:ext cx="304776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Bookman Old Style"/>
              </a:rPr>
              <a:t>Plantation Life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71600" y="1981080"/>
          <a:ext cx="7620120" cy="429732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Night Sleep Tigh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gs on tables too valuable to place on the flo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eep tight don’t let the bed bugs bite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n’s favorite was hot choco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s washed very seldo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the American” born at Pennsbu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bs used for medicine and fragra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f-working fa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n’s barge traveled from  Philadelphia to Pennsbu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DSC02046[1]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opy of 6B Yearbook 025"/>
          <p:cNvPicPr/>
          <p:nvPr/>
        </p:nvPicPr>
        <p:blipFill>
          <a:blip r:embed="rId1"/>
          <a:stretch/>
        </p:blipFill>
        <p:spPr>
          <a:xfrm>
            <a:off x="1295280" y="66600"/>
            <a:ext cx="784872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00:28:41Z</dcterms:created>
  <dc:creator>GERALD YERKES</dc:creator>
  <dc:description/>
  <dc:language>en-US</dc:language>
  <cp:lastModifiedBy>lyerkes</cp:lastModifiedBy>
  <dcterms:modified xsi:type="dcterms:W3CDTF">2013-04-17T17:58:28Z</dcterms:modified>
  <cp:revision>36</cp:revision>
  <dc:subject/>
  <dc:title>WILLIAM PENN</dc:title>
</cp:coreProperties>
</file>